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51F8-5DA0-45C8-B5BD-D2A6102A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BC4-4EAC-4930-ABEA-1093DDD1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BD83-2E18-4B55-8F22-C0E8720D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44B-4DBC-456B-B8DC-2A3612E1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4ED4-27C5-4C5B-9E9C-C0E321BD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0B43-1DC8-4CFC-A104-B7C5434F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6BED-3711-4F3B-B5EF-9D03870A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B030-6D9D-451D-9111-A0253CC7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2ED4-549B-41F5-8918-CED4D377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D892-AC43-4762-9EFE-632F8D45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DDFB-C253-47D1-8A0A-E32A5A73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BB7-BCF6-47B5-AD19-741BDED3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952D-8444-4C0C-9122-F4B82F84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3C99-A0AE-4BAD-9327-77F46626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4458-A501-49EB-A8ED-1D67983A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C44C-E4AF-45AF-B6AC-CBC2ED15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5C7C-3B4E-4C70-9D83-28653C09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985C-4B1B-433E-8B26-C5FB357E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FBD9-9094-4D0C-8A8B-E00EEF72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BA72-11F0-456B-8021-5DBEEE03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1D1-D7E4-460B-8C9C-E4642448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EB7-3165-4F94-AA52-451CD81C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F25-8F0E-46A6-B737-B6212135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D4BB-97B0-4A44-9ABE-72787C0F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63BD-1756-49B4-9B39-F8E81236B4A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C0CF-3C3B-463A-9D21-B833E626648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Unit 4C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and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ilding Cohesion in Society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vast majority of people abide by the law, do nice things for each other and work for social change and just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s covers more negative than positive events, movies and TV usually explore the dark side of human natu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Building Cohesion in Society - continue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truism 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luntarily giving more than what can be expected in retu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erois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facing personal danger while helping another for no personal rew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553080" y="990720"/>
            <a:ext cx="1833840" cy="2057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57800" y="3637080"/>
            <a:ext cx="3657600" cy="2398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181480" y="2819520"/>
            <a:ext cx="174636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Holocaust Rescuers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features in comm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019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ong sense of right and wro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lt a moral responsibility to help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ke of at least one parent with high moral values who influenced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ied strongly with victims – knew them, had been persecu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ong sense of adventure – no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752480" cy="2743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553080" y="2514600"/>
            <a:ext cx="23702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Dovidio and Gaertner </a:t>
            </a: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(University of Delaware)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year study of altru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only one witness – he/she helped 83-95% of time, regardless of r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hite subjects believed there were 2 other wit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ed the black victim 38% of the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ed the white victim 75% of the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ther Factors increasing Altruis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eling of guilt about somet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m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rushed for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explain road 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n selection – animals (and humans) help those who are closely rel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reading and continuing genes similar to one’s 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roving Cohesion in Cana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er mediation and conflict resolution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place (OC Transpo shooting - recommenda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assment poli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gnition that non-physical violence is equally dama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ention – after crime is committed is too l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2:53:54Z</dcterms:created>
  <dc:creator>The Owner</dc:creator>
  <dc:description/>
  <dc:language>en-US</dc:language>
  <cp:lastModifiedBy>Customer</cp:lastModifiedBy>
  <dcterms:modified xsi:type="dcterms:W3CDTF">2010-12-06T19:22:02Z</dcterms:modified>
  <cp:revision>2</cp:revision>
  <dc:subject/>
  <dc:title>Unit 4C</dc:title>
</cp:coreProperties>
</file>